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7EA-277B-4242-A8F2-561284B5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7CD-D7F2-4EFF-8D4A-F0B8DBF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039-D39B-438E-861E-5DE1F718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B27-8A7E-4A73-A3CE-86169DB7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068-4F00-4F57-A7F7-4820CD8A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3C12-426D-46AB-A8F4-FBC40D2F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4993-A5AA-4D9F-A917-3E2783E1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1722-BEE3-4198-9FFE-0AD0350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91A8-E28C-4C6F-A9E7-F00DE009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59B-0F2E-48F6-8366-E00841F0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8E9A-57E2-4430-9432-0595A2C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5E3-43F0-4091-9382-AF94F86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67B-8C66-4D35-B05D-566AEBF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B75-C25F-4BAF-AEBB-C52854B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2248-6FF6-4258-8B72-C07131B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EDE3-D9C6-42F5-B69D-54A47C6B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B163-7B0B-4CA6-9793-D59488F2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6C9-B807-4E5C-B45D-81A57F22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442-C2FF-4F57-87DD-E650BEA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223-2737-4E84-899F-9CAD349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F52-176C-48ED-B582-EA0E621D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0D9-5747-4FAA-86E1-5409AE5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B7B-7BDE-4BC1-BC76-09110C4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934-B097-49D2-8E5A-58A4AAF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397-101C-4205-B867-BD8A20793527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F98-33D2-4E22-8CDF-C8C9224A69E9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62c"/>
                </a:solidFill>
                <a:latin typeface="Arial Black"/>
              </a:rPr>
              <a:t>Current, Conductors and Insulators</a:t>
            </a:r>
            <a:endParaRPr b="0" lang="en-US" sz="4800" spc="-1" strike="noStrike">
              <a:solidFill>
                <a:srgbClr val="98462c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us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uses contain a thin wire and if too much electricity flows through the wire, it heats up and melt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urren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Curren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Current refers to electricity that moves through a circui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6705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52880" y="4275000"/>
            <a:ext cx="3505320" cy="258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onduc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conductor is a material that allows electric current to pass through i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ypes of metal such as silver and copper are usually the best conductor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onduc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inside of wires and the connective parts of switches are made of conducto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57913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sis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Resistor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Resistors do not allow electric current to pass through as easy as oth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2200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sis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s electrons move through a resistor, they cause frict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s friction creates heat, and the material gets warmer and sometimes lights up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295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sis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ou find resistors in toasters, stoves, and heater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2476440" cy="1866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962520" y="2971800"/>
            <a:ext cx="2590560" cy="1633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743200" y="4876920"/>
            <a:ext cx="285768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477120" y="3124080"/>
            <a:ext cx="2404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62600" y="4524480"/>
            <a:ext cx="2381400" cy="23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414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sulator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sulators do not allow any current to pass through them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se protect us from the harm that electric current can cause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ires are always covered with an insulator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bber, plastic, and glass make the best insulator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us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fuse protects a circuit from too much electric current from passing through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25192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0:51:59Z</dcterms:created>
  <dc:creator>Teacher</dc:creator>
  <dc:description/>
  <dc:language>en-US</dc:language>
  <cp:lastModifiedBy>nbdoe</cp:lastModifiedBy>
  <dcterms:modified xsi:type="dcterms:W3CDTF">2006-12-07T13:47:00Z</dcterms:modified>
  <cp:revision>5</cp:revision>
  <dc:subject/>
  <dc:title>Current, Conductors and Insulators</dc:title>
</cp:coreProperties>
</file>